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23E-FFCF-4642-BAED-94BB0960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236-B99C-46D7-AA4D-3FA93A67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F57-9BC3-4078-8D75-379B2F9F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829-2D5F-4257-95C1-6501A0D1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EA26-4745-4358-B2D3-8D7313BB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AADB-07C7-4DB8-9A30-607BAEC0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4CA0-14C5-49D9-9C49-08B45ADF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C5D4-91DF-4956-BA77-B256A0D8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7729-7337-404B-B423-5FEA4997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3BF9-0730-49BC-9CAC-B5BAE181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54E7-0C2A-47BE-BC1D-FA47AB60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28C-D92F-47F3-B59B-000A5AF5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F2CD-7D9F-4092-8B44-6E1BB054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C7CB-2EE0-4453-AE41-A0272EC8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CED2-78FC-4C28-B04A-0BBA1A6B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AC23-491F-40AB-BFAA-DA3FC255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0B88-7216-4C83-B0EE-8DC4BADB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D16-0FF6-4288-8056-092959E2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E91-D374-4770-912E-3C18C0A2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B7F-B746-4727-870C-743BE5CD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9C6-4C99-428F-B595-29883B9A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326-D5FD-4E97-A830-617BCDD3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BF3-8B28-4257-A6BC-5ED97D03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3B9-B432-404B-BA80-F7716CB5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5B0C-6DBF-4875-932F-F586A76A33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62C0-0625-4F48-A87E-B5CADE105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21320" y="22716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3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90512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16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mpete privativamente à União o poder de legislar sobre as seguintes matéri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IV – os bens do domínio federal, minas, metalurgia, energia hidráulica, águas, floresta, caça e pesca e sua explor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lexandre Braule</cp:lastModifiedBy>
  <dcterms:modified xsi:type="dcterms:W3CDTF">2004-08-11T15:58:51Z</dcterms:modified>
  <cp:revision>72</cp:revision>
  <dc:subject/>
  <dc:title>Apresentação do PowerPoint</dc:title>
</cp:coreProperties>
</file>